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4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DBFD-F197-4090-B7F8-DA52A681D4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B66A-56C3-4687-8E95-BB000847385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EF33-87CA-4B0D-B127-48253E974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9AD5-F74A-4914-B0AC-CF6B64E7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A002-F86C-4916-975D-A79BC980A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83D0-0565-410D-9148-730F26375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65A5-2890-4E1F-A217-6830F878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8FA2-0A8D-4354-90A0-518772D9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1ED2-F630-407A-A807-AEADA92A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E09A-A403-4A5A-ACC1-B0B82B0D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A046-5727-4930-A2B6-C25EA7C5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DBF7-1857-4208-8DA1-BFBE947F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9C3E-333A-454A-9ACC-BB8AB87F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5851-80B9-43A2-92A4-B6B8CFBE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4152-3CA5-4F17-8F15-AF2105ECD464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381880" cy="1828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Всероссийский конкурс 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«Учитель года России»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2362320"/>
            <a:ext cx="79246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81bd"/>
                </a:solidFill>
                <a:latin typeface="Arial"/>
              </a:rPr>
              <a:t>Рекомендации при подготовке к конкурс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Схема 3" descr=""/>
          <p:cNvPicPr/>
          <p:nvPr/>
        </p:nvPicPr>
        <p:blipFill>
          <a:blip r:embed="rId1"/>
          <a:stretch/>
        </p:blipFill>
        <p:spPr>
          <a:xfrm>
            <a:off x="444600" y="262080"/>
            <a:ext cx="7493040" cy="12855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8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400" spc="-1" strike="noStrike">
                <a:solidFill>
                  <a:srgbClr val="1f497d"/>
                </a:solidFill>
                <a:latin typeface="Verdana"/>
              </a:rPr>
              <a:t>?</a:t>
            </a:r>
            <a:endParaRPr b="0" lang="en-US" sz="3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Схема 3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7547040" cy="1468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.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подготовке выступления  и  в самом выступлени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определении собственных концептуальных позици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выделении в собственном педагогическом опыте наиболее ценных составляющих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доказательности актуальности и новизны применяемых методов, способов, технологий обучения и воспитания дете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к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ачественн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 логичном представлении  собственног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опыт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 В к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омпетентн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м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самоанализ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веденного учебного занятия в соответствии с представленным педагогическим опыт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Схема 3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7493040" cy="1468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На определении предмета разговора, т.е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О ЧЁМ ВЫ ХОТИТЕ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РАССКАЗАТЬ?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Схема 3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7493040" cy="14684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На определении объёма информаци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Вы хотите рассказать свою педагогическую биографию или представить на обсуждение 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Verdana"/>
              </a:rPr>
              <a:t>ЧТО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Схема 3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7493040" cy="1468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На определении формы представления своего опыт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Помним: жанр конкурса – это не защита диссертации, но и не бурный поток сознани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Схема 3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7493040" cy="1468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На построении логики выступле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ЧТО? Откуда взялось?  Кем придумано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ДЛЯ ЧЕГО (достижения какого результата) используетс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КАК разрабатывалось и приобретало практические очертания и технологические конструкци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Verdana"/>
              </a:rPr>
              <a:t>Может именно здесь сказать о взаимодействии …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Пути взаимодействия ( С КЕМ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Условия реализаци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Схема 3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7493040" cy="1468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Verdana"/>
              </a:rPr>
              <a:t>И постоянно помним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Метапредметный характер образования – одно из основных требований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ФГО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Метапредметный характер учебных занятий – один из основных критериев конкурсных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задани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Прямоугольник 4"/>
          <p:cNvSpPr/>
          <p:nvPr/>
        </p:nvSpPr>
        <p:spPr>
          <a:xfrm>
            <a:off x="3870720" y="3244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чебное заняти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Учебное занятие» (регламент 40 минут, включая 10 минут для анализа занятия и ответы на вопрос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ат: проведение учебного занятия с учащимися, отражающего </a:t>
            </a:r>
            <a:r>
              <a:rPr b="0" lang="ru-RU" sz="2800" spc="-1" strike="noStrike" u="sng">
                <a:solidFill>
                  <a:srgbClr val="102c34"/>
                </a:solidFill>
                <a:uFillTx/>
                <a:latin typeface="Verdana"/>
              </a:rPr>
              <a:t>метапредметны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одход и междисциплинарные связи, умение формировать целостную картину мира и </a:t>
            </a:r>
            <a:r>
              <a:rPr b="0" lang="ru-RU" sz="2800" spc="-1" strike="noStrike">
                <a:solidFill>
                  <a:srgbClr val="102c34"/>
                </a:solidFill>
                <a:latin typeface="Verdana"/>
              </a:rPr>
              <a:t>надпредметны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омпетентност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Заголовок 1"/>
          <p:cNvSpPr/>
          <p:nvPr/>
        </p:nvSpPr>
        <p:spPr>
          <a:xfrm>
            <a:off x="692280" y="412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чебное заня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Критерии оценивания учебного занят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лубина и новизна раскрытия темы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мение организовать работу учащихся с разными видами источников знаний, включая ЭОР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ехнологичность учебного заняти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е разнообразных форм и видов деятельности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ритерии оценивания учебного занятия (продолжение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ультура речи учител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нализ учебного  занятия  и рефлексия своей деятельности в соответствии с существующими методиками (на выбор учителя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Конкурсные задания – 2016 год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Заочный этап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– Интернет-ресурс (сайт или блог учителя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Очный этап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едагогическая лаборатория учителя (в формате презентации на педагогическом совете/ методическом семинаре / МО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чебное занят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ина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 конкурсных испытаниях «Интернет-ресурс», «Педагогическая лаборатория учителя», «Учебное занятие» участвуют все конкурсанты, в «Мастер-классе» – только финалист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Это важно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мните, что учебное занятие должно раскрывать основные положения Вашего выступления на этапе «Педагогическая лаборатория учителя», в некоторой степени иллюстрировать ег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Что стремятся увидеть члены жюри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адение содержанием предм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лубина и оригинальность раскрытия темы учебного заняти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здание условий для успешной работы дете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снованность использованных методов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апредметность ……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Финал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астер-класс» (регламент: до 20 минут, включая 5 минут для ответов на вопрос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ат: проведение мастер-класса для педагогической общественности, отражающег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значение преподаваемого предмета для формирования мировоззрения и общекультурных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компетентностей.</a:t>
            </a:r>
            <a:r>
              <a:rPr b="0" lang="tt-RU" sz="2400" spc="-1" strike="noStrike">
                <a:solidFill>
                  <a:srgbClr val="000000"/>
                </a:solidFill>
                <a:latin typeface="Verdana"/>
              </a:rPr>
              <a:t> Тема  сообщается за день до проведения конкурсного мероприят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Verdana"/>
              </a:rPr>
              <a:t>Что такое мастер-класс?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— это интерактивная форма обучения и обмена опытом, объединяющая формат тренинга и конференции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(от английского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masterclass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master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 — лучший в какой-либо области +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class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 — занятие, урок) действительно является семинаром, который проводит эксперт в определённой дисциплине, для тех, кто хочет улучшить свои практические достижения в этом предмете. Очевидно, таким образом, что мастер-классы не показывают, а проводят. Придя в русский язык, слово «мастер-класс» и вовсе получило самое широкое значение; так теперь называют практически любой семинар, проводимый опытным человеком, неважно, в какой области знаний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Финал. Мастер-клас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ина и оригинальность выбранного содержан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ность проведения мастер-клас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заимодействовать с широкой аудиторие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а публичного выступл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Требования к участнику конкурса: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41536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глубо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педагогиче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етодиче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дидактиче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подготов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;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знания психолого-педагогических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теоретических оснований представляемого опыта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нимани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современных концепций образования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лгоритм подготовки к конкурсу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(этап «Методический семинар»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1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провести ревизию своего педагогического опы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2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определить тему представляемого опыта, сформулировать ее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3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составить план своего выступ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4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написать текст выступлени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Алгоритм подготовки к конкурсу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5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соотнести свое выступление с предъявляемыми в условиях конкурса критериями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6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- подготовить компьютерную презентацию к своему выступлению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7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отрепетировать выступление перед публикой (зеркалом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имерный (возможный) план выступлен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Что? Зачем? Как? Что получаю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ма опыта (проблема из противоречий в образовании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ль, задачи, которые ставите для решения проблем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правления деятельност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заимодействия (сотрудничество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хнологии, методики, используемые в работе (найти «изюминку»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 (прогнозируемый и реаль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зможно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е педагогическое кред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и правил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дагогические цен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Конкурсные задания в номинации «Педагогический дебют -  2016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Заочный этап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– Интернет-ресурс (сайт или блог учителя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Очный этап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разовательный проек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чебное занят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ина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 конкурсных испытаниях «Интернет-ресурс», «Педагогическая лаборатория учителя», «Учебное занятие» участвуют все конкурсанты, в «Мастер-классе» – только финалист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нкурсные мероприятия 1 (заочного) тура. Интернет-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0440" indent="3405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стить в личном блоге (сайте) следующие материал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440" indent="3405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опыта рабо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м даётся практическое обоснование предлагаемых педагогических решений, аргументируются методико-организационные условия, обеспечивающие успех работы учителя, раскрываются показатели эффективности его педагогической деятельности (формат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Wor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ъём описания опыта работы с приложениями - до 40 тыс. компьютерных знаков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440" indent="3405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се «Гордимся прошлым – строим будущее»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тором отражаются мировоззренческая, культурологическая, психолого-педагогическая позиции учителя (формат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Wor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ъём - не более 3-5 тыс. компьютерных знаков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440" indent="34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граф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ветная (портрет) и жанровая цветная с урока или внеклассного мероприят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едагогический дебют – 2016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оминации могут принимать участие учителя-предметники образовательных организаций со стажем работы от 0 до 5 ле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нкурсные мероприятия 1 (заочного) тура. Интернет-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0440" indent="3405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стить в личном блоге (сайте) следующие материал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440" indent="3405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опыта рабо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м даётся практическое обоснование предлагаемых педагогических решений, аргументируются методико-организационные условия, обеспечивающие успех работы учителя, раскрываются показатели эффективности его педагогической деятельности (формат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Wor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ъём описания опыта работы с приложениями - до 40 тыс. компьютерных знаков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440" indent="3405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се «Гордимся прошлым – строим будущее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м отражаются мировоззренческая, культурологическая, психолого-педагогическая позиции учителя (формат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Wor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ъём - не более 3-5 тыс. компьютерных знаков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440" indent="34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граф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ветная (портрет) и жанровая цветная с урока или внеклассного мероприят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нкурсные мероприятия 1 (заочного) тура. Интернет-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ритерии оценива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представленного на Интернет-ресурсе материа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ость и регулярность обновления информац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интересной и полезной информации для целевой аудитор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остность, логичность подачи материа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и качество иллюстративного материа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отно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листическая целостность, структурированность Интернет-ресурс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ство навигац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гинальность оформл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интерактивных сервисов (комментариев, форумов, опросов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чебное заняти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Учебное занятие» (регламент 40 минут, включая 10 минут для анализа занятия и ответы на вопрос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ат: проведение учебного занятия с учащимися, отражающего </a:t>
            </a:r>
            <a:r>
              <a:rPr b="0" lang="ru-RU" sz="2800" spc="-1" strike="noStrike" u="sng">
                <a:solidFill>
                  <a:srgbClr val="102c34"/>
                </a:solidFill>
                <a:uFillTx/>
                <a:latin typeface="Verdana"/>
              </a:rPr>
              <a:t>метапредметны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одход и междисциплинарные связи, умение формировать целостную картину мира и </a:t>
            </a:r>
            <a:r>
              <a:rPr b="0" lang="ru-RU" sz="2800" spc="-1" strike="noStrike">
                <a:solidFill>
                  <a:srgbClr val="102c34"/>
                </a:solidFill>
                <a:latin typeface="Verdana"/>
              </a:rPr>
              <a:t>надпредметны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омпетентност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Заголовок 1"/>
          <p:cNvSpPr/>
          <p:nvPr/>
        </p:nvSpPr>
        <p:spPr>
          <a:xfrm>
            <a:off x="692280" y="412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чебное заня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Критерии оценивания учебного занят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лубина и новизна раскрытия темы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мение организовать работу учащихся с разными видами источников знаний, включая ЭОР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ехнологичность учебного заняти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е разнообразных форм и видов деятельности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ритерии оценивания учебного занятия (продолжение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ультура речи учител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нализ учебного  занятия  и рефлексия своей деятельности в соответствии с существующими методиками (на выбор учителя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й проек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онстрация культуры проектирования в образовании, видения существующих проблем и путей их решения, умения продуктивно работать в команде и выстраивать конструктивное взаимодейств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т конкурсного зада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группы из 4 конкурсантов (состав определяется жребием) в течение 15 минут проводят обсуждение и выбирают тему образовательного проекта, распределяют зоны ответственности каждого члена команды. Группы получают не менее 1 часа для разработки образовательного проекта и его оформления в электронном и/или другом формате. Для представления образовательного проекта на сцене группа получает 20 минут и в течение 10 минут отвечает на вопросы жюр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й проек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ки конкурсного зада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ая деятельность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ционная и языковая культура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и реалистичность решений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ивность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тво и оригинальность в представлении проект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Финал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астер-класс» (регламент: до 20 минут, включая 5 минут для ответов на вопрос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ат: проведение мастер-класса для педагогической общественности, отражающег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значение преподаваемого предмета для формирования мировоззрения и общекультурных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компетентностей.</a:t>
            </a:r>
            <a:r>
              <a:rPr b="0" lang="tt-RU" sz="2400" spc="-1" strike="noStrike">
                <a:solidFill>
                  <a:srgbClr val="000000"/>
                </a:solidFill>
                <a:latin typeface="Verdana"/>
              </a:rPr>
              <a:t> Тема  сообщается за день до проведения конкурсного мероприят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Финал. Мастер-клас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ина и оригинальность выбранного содержан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ность проведения мастер-клас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заимодействовать с широкой аудиторие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а публичного выступл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нкурсные мероприятия 1 (заочного) тура. Интернет-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ритерии оценива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представленного на Интернет-ресурсе материа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ость и регулярность обновления информац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интересной и полезной информации для целевой аудитор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остность, логичность подачи материа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и качество иллюстративного материа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отно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листическая целостность, структурированность Интернет-ресурс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ство навигац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гинальность оформл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интерактивных сервисов (комментариев, форумов, опросов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Желаю успехов всем участникам конкурса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3" descr="j0301252"/>
          <p:cNvPicPr/>
          <p:nvPr/>
        </p:nvPicPr>
        <p:blipFill>
          <a:blip r:embed="rId1"/>
          <a:stretch/>
        </p:blipFill>
        <p:spPr>
          <a:xfrm>
            <a:off x="2209680" y="2674800"/>
            <a:ext cx="4038840" cy="314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курсные мероприятия 2 тура. Педагогическая лаборатория учителя (регламент до 12 минут, включая вопросы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Формат: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стное представление конкурсантом своего профессионального опыта как опыта, сформировавшегося при взаимодействии с коллегами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ителями различных предметов, педагогами и специалистами образовательных учреждений    разных типов и видов, родителями учеников, общественными организациями, работниками   науки, культуры, сферы здравоохранения, представителями других сфер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Критерии оценивания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мение анализировать, обобщать, выявлять и применять инновационные идеи в своей профессиональной деятельнос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щая и профессиональная эрудиц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ультура публичного выступлен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аличие мониторинга результативности педагогического опыта в соответствии с заявленной темой.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ие анализировать, обобщать, выявлять и применять инновационные идеи в своей профессиональной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эффективность внедрения инноваций в педагогическую практику, ценность педагогических социальных системных  эффектов, эффективность представленных форм взаимодействия, практическая значимость представленных форм трансляции опыта)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бщая и профессиональная эруди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(широта кругозора, психолого-педагогическая и методическая грамотность, понимание государственной стратегии в области образования)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ультура публичного выступ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(логичность изложения материала, связная устная речь, эмоциональное воздействие на аудиторию, культура использования ИКТ)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личие мониторинга результативности педагогического опыта в соответствии с заявленной методической темо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1T16:24:41Z</dcterms:created>
  <dc:creator>Пахомова</dc:creator>
  <dc:description/>
  <dc:language>en-US</dc:language>
  <cp:lastModifiedBy>Лариса Сомова</cp:lastModifiedBy>
  <dcterms:modified xsi:type="dcterms:W3CDTF">2015-12-29T23:25:59Z</dcterms:modified>
  <cp:revision>46</cp:revision>
  <dc:subject/>
  <dc:title>Представление опыта</dc:title>
</cp:coreProperties>
</file>